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020D-95A4-4617-8B5A-FC78B81B2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2E31-5DFD-4D38-946A-A54E171C16D2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13EC-21F9-42E7-AAF2-6FD7E2C218AA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Torgeson formally of the FCRR reiterates the importance of having prerequisite skills in place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 on your FAIR dat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4A72-D943-436F-AF37-25FEBB5E1DA4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AFF8-08CB-4634-93D1-A83E41F09995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what research says will have an effect on your students’ reading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3D10-50F1-43C8-9638-5D1802F1C5E0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effective strategy for improving fluency in connected text is the use of repeated readings.  We will be looking more in-depth at timed repeated readings a little later.  These readings can be done with an adult, and as Dr. Hudson says, this pairing will result in a more dramatic gain, but that requires a lot of time with the teacher.  Research studies have shown that peers can be adequate partners for fluency practice.  Choral reading, tape or computer-assisted reading are other approaches to fluency practice.  We will be looking at Reader’s Theater a littl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17E6-4037-404C-B272-6594D0560AA2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working specifically on reading fluency, it is critical that you chose appropriate pa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3D86-A3AF-4505-9450-EDD78B2A2F7D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62E2-77B8-4E9C-9CDF-382FCD1262E8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C158-8E5A-4600-ADA5-C01677A8CA82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075A-10BF-4CA8-8FB2-777514A2D6A1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tely—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--at a quick pace without stumbling over words; aut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ody-with expression;  a speaking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e the importance of prosody by read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! Yes! With J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first time with accuracy a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read with pros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e definition of fluency, how would you answer this ques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good readers will have difficulty reading text fluently if there are an number of unfamiliar words in the text or the content of the text is unfam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ee some examples of text you might find challe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2575-F217-4678-B550-B15C010AE7D9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 how did you answer this question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D71C-929F-402F-AF87-D8A76CCDD5A1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9D5C-51DF-4368-BCC4-0AD971729557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ee what Dr. Roxanne Hudson has to say about the importance of fluency.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 LEaRN video on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8F96-693D-4B76-8B1A-7BAF085C11D1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view Dr. Hudson’s video, let’s compare our less fluent readers to our more fluent rea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have both fluent and non fluent readers in your classrooms.  Why is it that some students read less fluently than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8184-C75F-49B6-BE27-3D237318EA4D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 number of prerequisite skills necessary before a student can be a fluent rea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200C-750C-418D-A690-EE492DB183C2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686-0D45-45AD-A1F4-70312701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B04-54C9-4913-B0E8-652DB753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977-F53B-4B73-9563-46897722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C98-BDAB-4707-BB3D-76FFE552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9633-BC25-4165-8409-38EA71B9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4A30-CECE-490A-9BAD-EDFD435D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22C7-DF83-40E0-B616-C356FB6A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C519-4766-42F0-8160-B4951F3C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E57F-43FE-476C-8984-4854BA31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3E04-0CC2-437E-9327-A61CBBAF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CB0B-8BF8-4256-9CB7-007B51F5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83B-DC65-4BE8-A85E-9F537A42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76EF-93F1-4F23-9FE3-14751809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7D57-678A-43BF-A0B5-46C201F3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BC5E-D6C4-4F98-9CDC-A58F81FB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11CC-8C97-435B-BD7E-CD772CCF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82CF-5857-496E-BCE2-ED5B4194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A8B-9413-4100-9587-AD9C152A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549-A160-4183-B2DB-159E9D04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9BB-0F4A-4F5C-B4E8-1560167C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F38-C0B6-4ECF-80EE-4B6350F4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BB1-2A88-47A1-BD47-C09F5D72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DD2-E53C-4BF0-ADF6-A9169D9B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A2B-11CA-472A-8FE9-85130009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1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201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202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203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04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205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206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207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208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209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210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211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212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213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214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215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216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217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18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9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0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21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22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23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24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25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26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27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228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229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230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231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28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26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26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26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26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26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27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27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27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27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27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27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27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27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27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27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28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28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28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28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28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28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28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28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28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B2C1-8331-48F7-9CFD-61B461402E25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02FB-C98B-4D15-94A7-7786A0792243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READING FLUEN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Literacy Links Founda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Mary Baile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Content Placeholder 3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2703240" cy="6064200"/>
          </a:xfrm>
          <a:prstGeom prst="rect">
            <a:avLst/>
          </a:prstGeom>
          <a:ln w="0">
            <a:noFill/>
          </a:ln>
        </p:spPr>
      </p:pic>
      <p:sp>
        <p:nvSpPr>
          <p:cNvPr id="401" name="TextBox 5"/>
          <p:cNvSpPr/>
          <p:nvPr/>
        </p:nvSpPr>
        <p:spPr>
          <a:xfrm>
            <a:off x="5029200" y="4648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Hudson, R., Pullen, P.,  Lane, H., Torgesen, J. (2009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4176"/>
                </a:solidFill>
                <a:latin typeface="Arial"/>
              </a:rPr>
              <a:t>Schools, grade levels, and teachers that are not producing strong growth in phonemic awareness, phonics, and </a:t>
            </a:r>
            <a:r>
              <a:rPr b="1" i="1" lang="en-US" sz="3600" spc="-1" strike="noStrike">
                <a:solidFill>
                  <a:srgbClr val="404176"/>
                </a:solidFill>
                <a:latin typeface="Arial"/>
              </a:rPr>
              <a:t>fluency</a:t>
            </a:r>
            <a:r>
              <a:rPr b="0" i="1" lang="en-US" sz="3600" spc="-1" strike="noStrike">
                <a:solidFill>
                  <a:srgbClr val="404176"/>
                </a:solidFill>
                <a:latin typeface="Arial"/>
              </a:rPr>
              <a:t> in their students are not likely to show strong gains on measures of reading comprehension.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                               Torgesen, 2005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pecifically, schools must provide…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ore powerful instruction toward mastery of the alphabetic principal by the end of first grad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ronger support for the growth of reading fluency in first and second grade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04176"/>
                </a:solidFill>
                <a:latin typeface="Arial"/>
              </a:rPr>
              <a:t>What activities do you use in your classroom to help your students develop their fluency skill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 Instruc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Model fluent reading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ad to your students dail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e tape-assisted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e computer-assisted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Have students practice re-reading the same tex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 Instruc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Use repeated reading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Student-adult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Partner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Choral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Tape/computer-assisted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Reader’s theatr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 Practi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assages should be relatively shor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 should be reasonably easy for stude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447920" y="3809880"/>
          <a:ext cx="6095880" cy="2551320"/>
        </p:xfrm>
        <a:graphic>
          <a:graphicData uri="http://schemas.openxmlformats.org/drawingml/2006/table">
            <a:tbl>
              <a:tblPr/>
              <a:tblGrid>
                <a:gridCol w="1981080"/>
                <a:gridCol w="2082960"/>
                <a:gridCol w="2031840"/>
              </a:tblGrid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Independent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ve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Instructiona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ve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Frustration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ve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6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1 in 20 words difficult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95% accuracy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1 in 10 words difficult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90% accuracy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More than 1 in 10 words difficult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ss than 90%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Monitor Progres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Helps determine the effectiveness of instruction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Helps to set instructional goal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Is motivating to student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Timed Reading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Select passage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Have students read passage for 1 minute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Count number of words read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Subtract the number of error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Graph WCPM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176"/>
                </a:solidFill>
                <a:latin typeface="Arial"/>
              </a:rPr>
              <a:t>With greater fluency, readers can concentrate on comprehending what they read, develop greater self confidence, and enjoy reading more.</a:t>
            </a:r>
            <a:br>
              <a:rPr sz="4000"/>
            </a:b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Gilbert &amp; Temple, 1994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is the ability to read a text accurately and quickly with prosody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Do </a:t>
            </a:r>
            <a:r>
              <a:rPr b="1" i="1" lang="en-US" sz="5400" spc="-1" strike="noStrike">
                <a:solidFill>
                  <a:srgbClr val="404176"/>
                </a:solidFill>
                <a:latin typeface="Arial"/>
              </a:rPr>
              <a:t>you</a:t>
            </a: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 read all text fluently?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Why is reading fluently important?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is important because it provides a bridge between word recognition and comprehension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383ad"/>
                </a:solidFill>
                <a:uFillTx/>
                <a:latin typeface="Arial"/>
              </a:rPr>
              <a:t>Less Fluent Reader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ust focus their attention primarily on decoding individual words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ave little attention left for comprehending the the tex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383ad"/>
                </a:solidFill>
                <a:uFillTx/>
                <a:latin typeface="Arial"/>
              </a:rPr>
              <a:t>More Fluent Reader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cus attention on making connections among the ideas in the text and their background knowledg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ble to focus on comprehens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Why might your students have difficulty with reading fluency?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176"/>
                </a:solidFill>
                <a:latin typeface="Arial"/>
              </a:rPr>
              <a:t>Prerequisite Skills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Letter familiarity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Phonemic awareness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Knowledge of alphabetic principle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erequisite Skil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Fluency is also dependent on the reader’s vocabulary skills. Students must connect with the syntactical and meaning aspects of words.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4:50:10Z</dcterms:created>
  <dc:creator>Maryk</dc:creator>
  <dc:description/>
  <dc:language>en-US</dc:language>
  <cp:lastModifiedBy>ECSD</cp:lastModifiedBy>
  <dcterms:modified xsi:type="dcterms:W3CDTF">2010-04-12T14:46:45Z</dcterms:modified>
  <cp:revision>11</cp:revision>
  <dc:subject/>
  <dc:title>READING FLUENCY</dc:title>
</cp:coreProperties>
</file>